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A9F793-5C25-45C6-A2D7-9B20BC813DC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1776E1-2AAD-4842-80BF-4794B3708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067AA3-3C74-4904-B889-07E1324EB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0FD2C9-C86A-43F7-9D59-698AD002C4F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90FF9F-1E60-4668-B463-06AEFB565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980AED-699D-443E-B4FA-6AF829D25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A35104-048F-45D4-9855-6AC33D3B6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926144-8D25-4EFD-ACBD-539A1A141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0ADB75-0E15-4583-BC3B-3065268CA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750C70-39C6-4626-A15C-FAE236FEF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C6CD68-27AB-4840-86B9-AA0A911B9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5E0FAF-8323-4D24-9C13-4F2A0925D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028000" y="333360"/>
            <a:ext cx="431640" cy="287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3348000" y="6381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961A8-7BA8-45EE-8C6F-61675B8AF553}" type="slidenum">
              <a:rPr b="0" lang="en-US" sz="10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71520" y="636264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2006/05/23 </a:t>
            </a:r>
            <a:r>
              <a:rPr b="0" lang="en-US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2006 BenQ Corpo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7720560" y="208080"/>
            <a:ext cx="119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c0000"/>
                </a:solidFill>
                <a:latin typeface="Arial"/>
              </a:rPr>
              <a:t>D R A F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 flipH="1">
            <a:off x="7524360" y="142920"/>
            <a:ext cx="360360" cy="33336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 flipH="1">
            <a:off x="7451280" y="115920"/>
            <a:ext cx="360360" cy="33336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 flipH="1">
            <a:off x="8748360" y="431640"/>
            <a:ext cx="360360" cy="33336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 flipH="1">
            <a:off x="8675280" y="404640"/>
            <a:ext cx="360360" cy="33372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98900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348000" y="1197000"/>
            <a:ext cx="2376360" cy="826920"/>
          </a:xfrm>
          <a:prstGeom prst="rect">
            <a:avLst/>
          </a:prstGeom>
          <a:solidFill>
            <a:srgbClr val="d1c1ff">
              <a:alpha val="90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002b5d"/>
                </a:solidFill>
                <a:latin typeface="Arial"/>
              </a:rPr>
              <a:t>BMG PH R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2b5d"/>
                </a:solidFill>
                <a:latin typeface="Arial"/>
                <a:ea typeface="新細明體"/>
              </a:rPr>
              <a:t>B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  <a:ea typeface="新細明體"/>
              </a:rPr>
              <a:t>Business Operations Sup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002b5d"/>
                </a:solidFill>
                <a:latin typeface="Arial"/>
                <a:ea typeface="新細明體"/>
              </a:rPr>
              <a:t>J. Bauregger</a:t>
            </a:r>
            <a:r>
              <a:rPr b="0" lang="de-DE" sz="1000" spc="-1" strike="noStrike">
                <a:solidFill>
                  <a:srgbClr val="002b5d"/>
                </a:solidFill>
                <a:latin typeface="Arial"/>
                <a:ea typeface="新細明體"/>
              </a:rPr>
              <a:t>	</a:t>
            </a:r>
            <a:r>
              <a:rPr b="0" lang="de-DE" sz="1000" spc="-1" strike="noStrike">
                <a:solidFill>
                  <a:srgbClr val="002b5d"/>
                </a:solidFill>
                <a:latin typeface="Arial"/>
                <a:ea typeface="新細明體"/>
              </a:rPr>
              <a:t>Yumig J Liu (deput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63640" y="2492280"/>
            <a:ext cx="1368360" cy="792360"/>
          </a:xfrm>
          <a:prstGeom prst="rect">
            <a:avLst/>
          </a:prstGeom>
          <a:solidFill>
            <a:srgbClr val="d1c1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BMG PH RD BOS 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BOS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J. Bauregg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508720" y="2492280"/>
            <a:ext cx="1368360" cy="792360"/>
          </a:xfrm>
          <a:prstGeom prst="rect">
            <a:avLst/>
          </a:prstGeom>
          <a:solidFill>
            <a:srgbClr val="d1c1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BMG PH RD BOS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BOS As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Yuming J Li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1280" y="227664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411280" y="227664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227640" y="227664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700360" y="4797360"/>
            <a:ext cx="1368360" cy="792360"/>
          </a:xfrm>
          <a:prstGeom prst="rect">
            <a:avLst/>
          </a:prstGeom>
          <a:solidFill>
            <a:srgbClr val="ccecff">
              <a:alpha val="90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Partner manag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R. v. Kemena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00360" y="3789360"/>
            <a:ext cx="1368360" cy="792000"/>
          </a:xfrm>
          <a:prstGeom prst="rect">
            <a:avLst/>
          </a:prstGeom>
          <a:solidFill>
            <a:srgbClr val="ccecff">
              <a:alpha val="90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Budget and portfolio align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H.-P. Höckenrein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55640" y="4797360"/>
            <a:ext cx="1368360" cy="792360"/>
          </a:xfrm>
          <a:prstGeom prst="rect">
            <a:avLst/>
          </a:prstGeom>
          <a:solidFill>
            <a:srgbClr val="ccecff">
              <a:alpha val="90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Roadmap planning, controlling and repor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D. Lutterb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55640" y="3789360"/>
            <a:ext cx="1368360" cy="792000"/>
          </a:xfrm>
          <a:prstGeom prst="rect">
            <a:avLst/>
          </a:prstGeom>
          <a:solidFill>
            <a:srgbClr val="ccecff">
              <a:alpha val="90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Planning process, support and tool defini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R. Lin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6784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a0e66"/>
                </a:solidFill>
                <a:latin typeface="Minion"/>
              </a:rPr>
              <a:t>Business Operations Support</a:t>
            </a:r>
            <a:br>
              <a:rPr sz="2800"/>
            </a:br>
            <a:r>
              <a:rPr b="1" lang="de-DE" sz="2800" spc="-1" strike="noStrike">
                <a:solidFill>
                  <a:srgbClr val="3a0e66"/>
                </a:solidFill>
                <a:latin typeface="Minion"/>
              </a:rPr>
              <a:t>BMG PH RD BOS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27664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411280" y="328464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124000" y="422100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124000" y="5084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6227640" y="6165720"/>
            <a:ext cx="1295280" cy="246240"/>
            <a:chOff x="6227640" y="6165720"/>
            <a:chExt cx="1295280" cy="246240"/>
          </a:xfrm>
        </p:grpSpPr>
        <p:sp>
          <p:nvSpPr>
            <p:cNvPr id="66" name=""/>
            <p:cNvSpPr/>
            <p:nvPr/>
          </p:nvSpPr>
          <p:spPr>
            <a:xfrm>
              <a:off x="6227640" y="6165720"/>
              <a:ext cx="358560" cy="2160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586200" y="6165720"/>
              <a:ext cx="936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Work Topi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6516720" y="4797360"/>
            <a:ext cx="1368360" cy="792360"/>
          </a:xfrm>
          <a:prstGeom prst="rect">
            <a:avLst/>
          </a:prstGeom>
          <a:solidFill>
            <a:srgbClr val="ccecff">
              <a:alpha val="90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Partner manag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tbd. </a:t>
            </a:r>
            <a:r>
              <a:rPr b="1" lang="en-US" sz="1000" spc="-1" strike="noStrike" baseline="30000">
                <a:solidFill>
                  <a:srgbClr val="002b5d"/>
                </a:solidFill>
                <a:latin typeface="Arial"/>
                <a:ea typeface="新細明體"/>
              </a:rPr>
              <a:t>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516720" y="3789360"/>
            <a:ext cx="1368360" cy="792000"/>
          </a:xfrm>
          <a:prstGeom prst="rect">
            <a:avLst/>
          </a:prstGeom>
          <a:solidFill>
            <a:srgbClr val="ccecff">
              <a:alpha val="90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Budget and portfolio align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tbd. </a:t>
            </a:r>
            <a:r>
              <a:rPr b="1" lang="en-US" sz="1000" spc="-1" strike="noStrike" baseline="30000">
                <a:solidFill>
                  <a:srgbClr val="002b5d"/>
                </a:solidFill>
                <a:latin typeface="Arial"/>
                <a:ea typeface="新細明體"/>
              </a:rPr>
              <a:t>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72000" y="4797360"/>
            <a:ext cx="1368360" cy="792360"/>
          </a:xfrm>
          <a:prstGeom prst="rect">
            <a:avLst/>
          </a:prstGeom>
          <a:solidFill>
            <a:srgbClr val="ccecff">
              <a:alpha val="90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Roadmap planning, controlling and repor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tbd. </a:t>
            </a:r>
            <a:r>
              <a:rPr b="1" lang="en-US" sz="1000" spc="-1" strike="noStrike" baseline="30000">
                <a:solidFill>
                  <a:srgbClr val="002b5d"/>
                </a:solidFill>
                <a:latin typeface="Arial"/>
                <a:ea typeface="新細明體"/>
              </a:rPr>
              <a:t>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72000" y="3789360"/>
            <a:ext cx="1368360" cy="792000"/>
          </a:xfrm>
          <a:prstGeom prst="rect">
            <a:avLst/>
          </a:prstGeom>
          <a:solidFill>
            <a:srgbClr val="ccecff">
              <a:alpha val="90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Planning process, support and tool defini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tbd.</a:t>
            </a:r>
            <a:r>
              <a:rPr b="1" lang="en-US" sz="1000" spc="-1" strike="noStrike" baseline="30000">
                <a:solidFill>
                  <a:srgbClr val="002b5d"/>
                </a:solidFill>
                <a:latin typeface="Arial"/>
                <a:ea typeface="新細明體"/>
              </a:rPr>
              <a:t>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940360" y="422100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0360" y="5084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227640" y="328464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932360" y="5877000"/>
            <a:ext cx="36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baseline="30000">
                <a:solidFill>
                  <a:srgbClr val="002b5d"/>
                </a:solidFill>
                <a:latin typeface="Arial"/>
                <a:ea typeface="新細明體"/>
              </a:rPr>
              <a:t>*) Organisation not existent today in Asia. Tbd. during worksh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20EF52-92E7-44C0-AEA9-8C88E3A58AA1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6T12:58:53Z</dcterms:created>
  <dc:creator>Brandl Nicole</dc:creator>
  <dc:description/>
  <dc:language>en-US</dc:language>
  <cp:lastModifiedBy> </cp:lastModifiedBy>
  <dcterms:modified xsi:type="dcterms:W3CDTF">2006-05-24T10:01:55Z</dcterms:modified>
  <cp:revision>67</cp:revision>
  <dc:subject/>
  <dc:title>PHE R&amp;D</dc:title>
</cp:coreProperties>
</file>